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0956-A7D9-4113-AEBE-F3D01414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0B8F-D645-4EB0-BBB6-2D12ED33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82D9-94DE-44C6-9C52-737290771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B163-BF6C-40B9-8C7E-2F71B6B6D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ABC7-DFC0-4A63-AF6E-63467F3B0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1B75-D489-4A4E-B732-CC7880D2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1540-69DF-4F8B-AB96-35678BA6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A455-A1B8-42A1-B6E2-D8186030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5723-842D-4761-9D79-28808A87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1563-4A3F-46A7-811F-77EFDBCD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0EBB-6D07-4E64-9202-0F23E5BD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F84A-D8A3-47F9-A42A-BD774DC0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7D6A-EC6A-4DE1-8988-6265D5A1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1B1E-7FA0-4A1A-B130-EBC99F96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0843-3F7E-40D0-84BB-4F39F5A3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D757-8114-4FF6-9BE1-79DC6930D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746E-AC88-4D86-98DD-468EA9B91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6BFC-A8BC-41CA-AEB0-EBC0E3B4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E3A7-1714-4F64-93A9-FBE03F93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5F13-791E-4607-9F92-871B61D7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EF6B-D9AF-478D-B926-7C00E40E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FC4A-E15A-44E0-AE67-0545E1C1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F646-D98A-4703-A980-B69E6002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C51A-DB82-41C0-8E39-7FFA4B3C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0F49-DB50-439F-AC1F-CD958DAD411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9FB4-E546-481B-9F5F-A4DAA23E5E4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152360"/>
            <a:ext cx="8242200" cy="22305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im Griffit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2514600" y="55627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3436"/>
                </a:solidFill>
                <a:latin typeface="Book Antiqua"/>
              </a:rPr>
              <a:t>http://jottit.com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Book Antiqua"/>
              </a:rPr>
              <a:t>Jottit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is another Web 2.0 tool that lets you easily create your own website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Choose your site name, and then claim it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You can set normal security settings such as passwords and select the privacy settings for your site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Content is added to a page through a text box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Format the page using “markdown syntax.”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Under the design tab, you can change the color scheme, font size for the header, sub-header, and content of your site. Add as many tabs as you’d like, too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 good way to insert tables for your site, the layout will be kept rather basic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drawback is that Jottit’s simplicity is limited to those that know what they’re doing. Without a WYSIWYG editor, or the options of a typical site creation tool, Jottit isn’t the most intuitive service to use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re’s no networking involved, so you won’t be able to easily find other websites that have been created under Jottit’s servic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622944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1447920" y="617220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daringfireball.net/projects/markdown/synta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1422360" y="0"/>
            <a:ext cx="11175840" cy="83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3:53:09Z</dcterms:created>
  <dc:creator>griffithjg</dc:creator>
  <dc:description/>
  <dc:language>en-US</dc:language>
  <cp:lastModifiedBy>griffithjg</cp:lastModifiedBy>
  <dcterms:modified xsi:type="dcterms:W3CDTF">2009-12-03T17:25:28Z</dcterms:modified>
  <cp:revision>18</cp:revision>
  <dc:subject/>
  <dc:title>Jottit</dc:title>
</cp:coreProperties>
</file>